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3F66-5E9A-4E5A-85E2-81CA2AF138A8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1894-DD28-4460-8473-B5DC26DCF6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4FAC-6A03-4D51-98FA-E9EAA9BFEF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905-B7E6-435A-85ED-8543D8E5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5EC-38C2-45E5-9D0E-9D1C613C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B9A-0A23-4F62-8D67-4F17EF08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936-426F-4636-A0E1-17E5B1DC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033B-7F0F-4A9B-880C-D3D0FD6C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CA0E-FFBF-4274-850C-A2B7B9D1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4A10-601D-4555-A923-6DC44DC1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31A3-F1EE-453F-BA67-12EB90C0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8948-DD3C-48F8-A4BB-93FC6E84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8FEF-1D1E-4F4B-917C-692C9219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5A99-F0A1-4E07-BFBB-36BC22AA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EE0-9631-4539-AB84-A9669265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EC08-87C6-49EC-A4C2-8CAB64D2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CD41-A38F-4B50-A5BB-3A566157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F5CE-C84F-4661-A6C1-1CE66750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7EFA-3DFF-4005-B10A-CCDE6862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8186-09F6-4A38-B7FB-DA5BC755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D241D-2000-4769-BE0F-1216AA71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953E0-D300-4CF8-AF7A-C2EF3B66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68E3D-86BB-4989-9670-20C9A55D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6625-431C-4BCE-8C2D-EC961EDA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4815C-5742-48E2-97CA-403A8C1C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1BC-1ACE-436B-98A8-4F3835A7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2662-A050-4241-AB78-D9BAFFF8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CFFB9-476D-4F81-8FD2-FEF0F886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00776-B242-45EF-AA8A-BF8273D9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87835-6C77-4AD7-8034-B46CE9D7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ABFF7-DE3D-48FF-AEFD-01754A10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4606-9E11-4C1D-B981-FDE2705B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BB1D1-B3EC-4B06-9F62-B6E78268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9CABC-60C4-4324-996C-4F40C0F9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44CA7-AF9C-4CCA-95D8-9D6D1CA0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559BF-22A0-4259-86E2-DE9AD5B6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770-7D67-4836-AF42-C6B3E110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2FAE9-DAE0-444B-A13A-5CF31E79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C55B0-CD61-4DF1-A4DA-FD6E4F48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CAF04-DDA7-44D8-A5DF-C93446DE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A8AF5-E160-49F0-82EA-03B33A62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106FC-AF0A-416C-B8C4-9C844234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A4A5B-A415-4495-8C7D-F469FB1C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69FCD-C2F5-42DB-AF98-E1E3B87A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B0ACB-FEFE-48CA-A637-FD838B21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8DAFE-F88D-424D-9EB5-6FB707F7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7E9-921B-4D31-A47F-44589CB9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97C-CD2E-4D2C-9AD0-5B968915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AAD-271C-4EEA-8150-8B870F15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B13C-AE4C-40C9-AB04-89041E45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67D-A8C7-4528-B212-BF58E5EC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9BA3-4CDE-4842-A261-8E90E51A41F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2689-3E34-4CB0-9FEF-BA219D54BD7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ED85-4A77-4AA2-B7BE-0BD14BD0F462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4B73-4158-42F7-BFF4-5932D567687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96D8-7B73-49F1-94B3-7555D62B90C3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76A2-C607-4728-A1C8-534A8AF1C7F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067F-ADC3-4950-B159-B5DFC7BFC2B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BF9B-CB57-4AA9-BFF8-0F4D77CDF5E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J Developm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TextBox 3" descr=""/>
          <p:cNvPicPr/>
          <p:nvPr/>
        </p:nvPicPr>
        <p:blipFill>
          <a:blip r:embed="rId3"/>
          <a:stretch/>
        </p:blipFill>
        <p:spPr>
          <a:xfrm>
            <a:off x="2664000" y="4413240"/>
            <a:ext cx="37432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to calculate volu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volume of a cylinder that has a radius of 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60496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π ×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× 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0496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ce a cylinder is a prism, the volume =  base area × he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1" name="Magnetic Disk 3"/>
          <p:cNvGrpSpPr/>
          <p:nvPr/>
        </p:nvGrpSpPr>
        <p:grpSpPr>
          <a:xfrm>
            <a:off x="615960" y="2554200"/>
            <a:ext cx="2048040" cy="3956040"/>
            <a:chOff x="615960" y="2554200"/>
            <a:chExt cx="2048040" cy="3956040"/>
          </a:xfrm>
        </p:grpSpPr>
        <p:pic>
          <p:nvPicPr>
            <p:cNvPr id="232" name="Magnetic Disk 3" descr=""/>
            <p:cNvPicPr/>
            <p:nvPr/>
          </p:nvPicPr>
          <p:blipFill>
            <a:blip r:embed="rId2"/>
            <a:stretch/>
          </p:blipFill>
          <p:spPr>
            <a:xfrm>
              <a:off x="615960" y="2554200"/>
              <a:ext cx="204804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85800" y="3860640"/>
              <a:ext cx="19051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4" name="Straight Arrow Connector 4"/>
          <p:cNvCxnSpPr/>
          <p:nvPr/>
        </p:nvCxnSpPr>
        <p:spPr>
          <a:xfrm>
            <a:off x="1600200" y="3123720"/>
            <a:ext cx="991440" cy="25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5" name="Straight Arrow Connector 5"/>
          <p:cNvCxnSpPr/>
          <p:nvPr/>
        </p:nvCxnSpPr>
        <p:spPr>
          <a:xfrm>
            <a:off x="1635480" y="3862080"/>
            <a:ext cx="3960" cy="25405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sp>
        <p:nvSpPr>
          <p:cNvPr id="236" name="TextBox 11"/>
          <p:cNvSpPr/>
          <p:nvPr/>
        </p:nvSpPr>
        <p:spPr>
          <a:xfrm>
            <a:off x="1828800" y="2819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066680" y="4800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alc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tal amount of water needed for entire villa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63 ± 2 L × 4 ± 1 people × 50 families × 14 days =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736 400 ± 26% L = 736 400 ± 200 000 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olume of storage tank: 736 400 ± 200 000 L of water = 736.4 ± 200 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way, both the different sizes of family and different consumption of water are accounted f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ximum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756.4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around 757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nimum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16.4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around 717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Best Choice (Max. Volume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28600" y="1676520"/>
          <a:ext cx="8686800" cy="4871880"/>
        </p:xfrm>
        <a:graphic>
          <a:graphicData uri="http://schemas.openxmlformats.org/drawingml/2006/table">
            <a:tbl>
              <a:tblPr/>
              <a:tblGrid>
                <a:gridCol w="911160"/>
                <a:gridCol w="1100160"/>
                <a:gridCol w="884160"/>
                <a:gridCol w="1219320"/>
                <a:gridCol w="1112760"/>
                <a:gridCol w="1127160"/>
                <a:gridCol w="1285920"/>
                <a:gridCol w="1046160"/>
              </a:tblGrid>
              <a:tr h="4428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adius 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se Area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ight 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 of Height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st of Metal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rete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rete Cost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 Cost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0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1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283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4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5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949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13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4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857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92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7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4428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8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706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14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8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</a:tr>
              <a:tr h="4431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8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2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38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164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6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3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699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989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3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6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338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619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9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279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053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4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8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48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6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291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7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4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1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916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9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4334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5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adius vs. Height vs. Total Co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935000"/>
          <a:ext cx="8229600" cy="4610160"/>
        </p:xfrm>
        <a:graphic>
          <a:graphicData uri="http://schemas.openxmlformats.org/drawingml/2006/table">
            <a:tbl>
              <a:tblPr/>
              <a:tblGrid>
                <a:gridCol w="2209680"/>
                <a:gridCol w="2895840"/>
                <a:gridCol w="3124080"/>
              </a:tblGrid>
              <a:tr h="41940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adius 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ight 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 Cost (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0.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9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0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.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2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1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7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6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7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9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4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35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est Choice (Min. Volume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280" y="1905120"/>
          <a:ext cx="8747280" cy="4647960"/>
        </p:xfrm>
        <a:graphic>
          <a:graphicData uri="http://schemas.openxmlformats.org/drawingml/2006/table">
            <a:tbl>
              <a:tblPr/>
              <a:tblGrid>
                <a:gridCol w="914400"/>
                <a:gridCol w="1067040"/>
                <a:gridCol w="914400"/>
                <a:gridCol w="1295280"/>
                <a:gridCol w="1219320"/>
                <a:gridCol w="1050840"/>
                <a:gridCol w="1295280"/>
                <a:gridCol w="990720"/>
              </a:tblGrid>
              <a:tr h="4302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adius 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se Area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ight 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 of Height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st of Metal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rete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rete Cost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 Cost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8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3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63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4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0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1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389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13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9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78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483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92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8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26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14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8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6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14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164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3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3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9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12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989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5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3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4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178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619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7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9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139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053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4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9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355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6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291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6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4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3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804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9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4334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5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adius vs. Height vs. Total Co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57200" y="1935000"/>
          <a:ext cx="8229600" cy="44578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ximum 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nimum 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adius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ight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st (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ight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st (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1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4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9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8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5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6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3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6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9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7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7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5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5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2209320"/>
            <a:ext cx="777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iability vs. C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 it really that good to have a 26± 1m structur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 it </a:t>
            </a:r>
            <a:r>
              <a:rPr b="0" i="1" lang="en-GB" sz="2400" spc="-1" strike="noStrike">
                <a:solidFill>
                  <a:srgbClr val="000000"/>
                </a:solidFill>
                <a:latin typeface="Constantia"/>
              </a:rPr>
              <a:t>possibl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to have a 26 ±1m structure that will hold its weigh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mount of water use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eway for water use of people in case they need more wa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Level of Accuracy (nearest whole number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sier to see the difference between fig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the cheapest cost, the height of the cylinder will be at least 25m, which is too hig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ter press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stability, if the radius is 1m larger, the height goes down by almost 10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bility, pressure distrib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Content Placeholder 3" descr="watertank.jpg"/>
          <p:cNvPicPr/>
          <p:nvPr/>
        </p:nvPicPr>
        <p:blipFill>
          <a:blip r:embed="rId2"/>
          <a:srcRect l="-5907" t="0" r="-5907" b="0"/>
          <a:stretch/>
        </p:blipFill>
        <p:spPr>
          <a:xfrm>
            <a:off x="457200" y="1920960"/>
            <a:ext cx="403848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Storage Ta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s a capacity of 7437 000 ± 200 000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s in the shape of a cylin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mens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adius: 4 me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eight: 14.5 ± 0.5  me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st: $14700 ± 1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124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did we get our number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Base area: π × r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eight: Volume needed (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) ÷ base are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tal surface area: 2πr(r+h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st of metal: $ (14 × total surface are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olume of concrete: (radius + 0.5m)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× 0.2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st of concrete: $ (640 × volume of concre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tal cost: $ (Cost of metal + cost of concre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sear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olid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nsw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5" descr=""/>
          <p:cNvPicPr/>
          <p:nvPr/>
        </p:nvPicPr>
        <p:blipFill>
          <a:blip r:embed="rId2"/>
          <a:stretch/>
        </p:blipFill>
        <p:spPr>
          <a:xfrm>
            <a:off x="476280" y="1311120"/>
            <a:ext cx="7832520" cy="14925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art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kind of grain are we stor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w much grain are we putting in storag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kind of shape is the best for storing the gra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kind of grain are we stor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ain can be used to make many types of f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ce, corn, oats, ry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our purposes, we’ll pretend that we’re storing r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grain are we putting in storag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e space that the cooked rice takes up is 3-4 times the space that uncooked rice takes u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person eats about 3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cooked rice per me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cooked rice ≈ 1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uncooked 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kind of shape is best for storing the gra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eal life 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ylinder has the largest area for a fixed perime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ylinders are also used for sil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Examples of Grain Stor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Content Placeholder 10" descr="silos and lorry.JPG"/>
          <p:cNvPicPr/>
          <p:nvPr/>
        </p:nvPicPr>
        <p:blipFill>
          <a:blip r:embed="rId2"/>
          <a:srcRect l="0" t="-17698" r="0" b="-17698"/>
          <a:stretch/>
        </p:blipFill>
        <p:spPr>
          <a:xfrm>
            <a:off x="457200" y="1920960"/>
            <a:ext cx="4038480" cy="4433760"/>
          </a:xfrm>
          <a:prstGeom prst="rect">
            <a:avLst/>
          </a:prstGeom>
          <a:ln w="0">
            <a:noFill/>
          </a:ln>
        </p:spPr>
      </p:pic>
      <p:pic>
        <p:nvPicPr>
          <p:cNvPr id="272" name="Content Placeholder 11" descr="hog grain storage.jpg"/>
          <p:cNvPicPr/>
          <p:nvPr/>
        </p:nvPicPr>
        <p:blipFill>
          <a:blip r:embed="rId3"/>
          <a:srcRect l="0" t="-24477" r="0" b="-24477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8"/>
          <p:cNvSpPr/>
          <p:nvPr/>
        </p:nvSpPr>
        <p:spPr>
          <a:xfrm>
            <a:off x="685800" y="5791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dengie-crops.com/media/silos%20and%20lorr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4724280" y="562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mawaterquality.org/gallery/photos/hog%20grain%20storag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alc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1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uncooked rice × 3 meals × 4 people × 50 families × 14 days = 840 000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f uncooked 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840 0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= 0.84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ed has to have a volume of 0.84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ound to 1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Best Choice for Grain Stor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935000"/>
          <a:ext cx="8229600" cy="446580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3924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adi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se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rcum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 of H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st of Me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rete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7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609840" y="-360"/>
            <a:ext cx="15238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560" y="518148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ith radius of 0.2 the height have to be 8 to hold 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0.84m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nstantia"/>
              </a:rPr>
              <a:t>3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2819160" cy="3352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"/>
          <p:cNvPicPr/>
          <p:nvPr/>
        </p:nvPicPr>
        <p:blipFill>
          <a:blip r:embed="rId3"/>
          <a:stretch/>
        </p:blipFill>
        <p:spPr>
          <a:xfrm>
            <a:off x="4267080" y="1676520"/>
            <a:ext cx="3667320" cy="32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4114800" y="5181480"/>
          <a:ext cx="4267080" cy="137160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have a structure with stability have to be radius of 0.3 and height of 3.5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088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ving a same cost stability will be bet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 having lower height with longer radius is safer to hold the weigh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t has plenty of space to put in a lot of gr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many people in a famil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61 children born/woman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(CIA World Factboo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und 2.61 children to 3 child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d 2 par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quals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people in a family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ever, our group mostly has 4 people in each family, s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4 ± 1 people in a family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Grain Sil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 cylindri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s a capacity of 1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mens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s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 metal sheet: $100 ± 10 ($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97.3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 concrete: $150 ± 10 ($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44.8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tal cost: $250 ± 20 ($242.1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굴림"/>
              </a:rPr>
              <a:t>Work cit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Where we got the amount of food and water per person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Constantia"/>
              </a:rPr>
              <a:t>http://www.newsobserver.com/weather/drought/story/1016009.html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1 Dec. 2008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&lt;http://www.newsobserver.com/weather/drought/story/1016009.html&gt;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굴림"/>
              </a:rPr>
              <a:t>: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Constantia"/>
              </a:rPr>
              <a:t>https://www.cia.gov/library/publications/the-world-factbook/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1 Dec. 2008 &lt;https://www.cia.gov/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library/publications/the-world-factbook/&gt;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굴림"/>
              </a:rPr>
              <a:t>Where we got the image of grain stor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굴림"/>
              </a:rPr>
              <a:t>: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Constantia"/>
              </a:rPr>
              <a:t>http://www.dengie-crops.com/media/silos%20and%20lorry.JPG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1 Dec. 2008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&lt;http://www.dengie-crops.com/media/silos%20and%20lorry.JPG&gt;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Constantia"/>
              </a:rPr>
              <a:t>http://www.mawaterquality.org/gallery/photos/hog%20grain%20storage.jpg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1 Dec. 2008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&lt;http://www.mawaterquality.org/gallery/photos/hog%20grain%20storage.jpg&gt;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3" descr=""/>
          <p:cNvPicPr/>
          <p:nvPr/>
        </p:nvPicPr>
        <p:blipFill>
          <a:blip r:embed="rId2"/>
          <a:stretch/>
        </p:blipFill>
        <p:spPr>
          <a:xfrm>
            <a:off x="476280" y="1311120"/>
            <a:ext cx="7832520" cy="1492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art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water does each person us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do we use water fo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is the best shape to store water 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do we use water fo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n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t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shing (dishes, laundr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il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2286000"/>
            <a:ext cx="7770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water does an average person us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ternet resear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69.3 gallons per person for indoor purposes 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laundry, shower, toilets, cooking, drink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vert into li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 gallon = 3.78541178 litr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69.3 gallons ≈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ＭＳ ゴシック"/>
              </a:rPr>
              <a:t>263 li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ＭＳ ゴシック"/>
              </a:rPr>
              <a:t>Leeway: 263 ± 2 lit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is the best shape to store water 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rimeter and Circumference vs. Area (of 2-D object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ircle vs. Squa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l life exam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 cylind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s the best shape to store water 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Content Placeholder 5" descr="{72ED8FC0-2FE1-4FAB-AAE2-484FF1A30A82}.JPG"/>
          <p:cNvPicPr/>
          <p:nvPr/>
        </p:nvPicPr>
        <p:blipFill>
          <a:blip r:embed="rId2"/>
          <a:srcRect l="-19287" t="0" r="-19287" b="0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to calculate Surface Are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urface area of a cylinder is calculated b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76680" indent="-355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los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(2πrh) + (2π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4300560" indent="-2700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= 2πr(r+h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2776680" indent="-355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pe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πrh + π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76680" indent="-355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r = radius of the cylinder’s base circ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76680" indent="-355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 = the height of the cylin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2" name="Magnetic Disk 6"/>
          <p:cNvGrpSpPr/>
          <p:nvPr/>
        </p:nvGrpSpPr>
        <p:grpSpPr>
          <a:xfrm>
            <a:off x="615960" y="2554200"/>
            <a:ext cx="2048040" cy="3956040"/>
            <a:chOff x="615960" y="2554200"/>
            <a:chExt cx="2048040" cy="3956040"/>
          </a:xfrm>
        </p:grpSpPr>
        <p:pic>
          <p:nvPicPr>
            <p:cNvPr id="223" name="Magnetic Disk 6" descr=""/>
            <p:cNvPicPr/>
            <p:nvPr/>
          </p:nvPicPr>
          <p:blipFill>
            <a:blip r:embed="rId2"/>
            <a:stretch/>
          </p:blipFill>
          <p:spPr>
            <a:xfrm>
              <a:off x="615960" y="2554200"/>
              <a:ext cx="204804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85800" y="3860640"/>
              <a:ext cx="19051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5" name="Straight Arrow Connector 8"/>
          <p:cNvCxnSpPr/>
          <p:nvPr/>
        </p:nvCxnSpPr>
        <p:spPr>
          <a:xfrm>
            <a:off x="1600200" y="3123720"/>
            <a:ext cx="991440" cy="25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6" name="Straight Arrow Connector 10"/>
          <p:cNvCxnSpPr/>
          <p:nvPr/>
        </p:nvCxnSpPr>
        <p:spPr>
          <a:xfrm>
            <a:off x="1635480" y="3862080"/>
            <a:ext cx="3960" cy="25405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sp>
        <p:nvSpPr>
          <p:cNvPr id="227" name="TextBox 11"/>
          <p:cNvSpPr/>
          <p:nvPr/>
        </p:nvSpPr>
        <p:spPr>
          <a:xfrm>
            <a:off x="1828800" y="2819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1066680" y="4800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0:10:14Z</dcterms:created>
  <dc:creator>Cara Leong</dc:creator>
  <dc:description/>
  <dc:language>en-US</dc:language>
  <cp:lastModifiedBy>Cara Leong</cp:lastModifiedBy>
  <dcterms:modified xsi:type="dcterms:W3CDTF">2008-12-03T11:49:33Z</dcterms:modified>
  <cp:revision>24</cp:revision>
  <dc:subject/>
  <dc:title>Storage Facilities</dc:title>
</cp:coreProperties>
</file>